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E7FE-2954-4DEB-8A13-E3B28E025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C921-73C0-4338-8CD1-912C47A7C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E7B2-A7FA-4232-B759-5DB93A194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D49E-5C73-4D20-B276-BA9C8E318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24484-18CC-4D2F-87CC-B1B104B24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EEEC9-76CB-42C8-90F5-1BAFD7FA6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CC573-71F2-4F48-8F22-A77095D2F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290CD-7EBD-4BB1-A1B2-AD5012A33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1FE84-8754-44C2-A02F-3FC401A54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F3FFE-3C82-4CAA-88FB-AC83AFB19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5270F-FB60-44BE-862E-7219B2C4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B230-896C-442C-9B5D-512979177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92A27-BCC5-4F4F-AE8E-342F5A54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0FEF0-A129-4BA9-AB04-63B0C0D9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9D13F-B8DF-426D-BC9F-5A41F2E5B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526B9-56A4-4AB4-820A-8DF85B5AD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3CE83-BC9D-415B-9C28-EAEF9E4ED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DFC6-0BD6-4BF8-8B14-6E6BDF29F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3F91-FB54-487A-AEEB-6E80EB807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1051-42E3-450A-93E4-2D7C19FA2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F372-28FA-444E-8255-0B71548F7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6F6A-766F-4A05-8A26-965ACE8A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3C5F-D07C-46A3-AB46-B5A1493F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00D0-9B69-4D2E-BA4C-0FF104E0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6AE63-C4C9-41E8-91EB-A907C47201B9}" type="slidenum">
              <a:rPr b="0" lang="fr-C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A2808-8325-417B-883B-94A6BDF7E18D}" type="slidenum">
              <a:rPr b="0" lang="fr-C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99"/>
                </a:solidFill>
                <a:latin typeface="Arial"/>
              </a:rPr>
              <a:t>La danse</a:t>
            </a:r>
            <a:endParaRPr b="0" lang="en-US" sz="6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771640" y="3141720"/>
            <a:ext cx="365760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La danse est mon sport préféré parce que: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Je peux exprimer mes émotions à travers elle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Je peux également avoir une meilleure forme physique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6637320" y="3789360"/>
            <a:ext cx="180828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Je le pratique de manière ludique ou compétitive ?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Il y a six ans, je pratiquais ce sport de façon compétitive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Maintenant, c’est ludique, parce que je n’ai plus le temps, ni l’argent pour faire de la compétition.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6156360" y="4149720"/>
            <a:ext cx="244800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15:27:27Z</dcterms:created>
  <dc:creator>Generic</dc:creator>
  <dc:description/>
  <dc:language>en-US</dc:language>
  <cp:lastModifiedBy>Marie-Pier</cp:lastModifiedBy>
  <dcterms:modified xsi:type="dcterms:W3CDTF">2007-11-18T18:49:56Z</dcterms:modified>
  <cp:revision>10</cp:revision>
  <dc:subject/>
  <dc:title>Le chien</dc:title>
</cp:coreProperties>
</file>